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  <p:sldId id="261" r:id="rId30"/>
    <p:sldId id="262" r:id="rId31"/>
    <p:sldId id="263" r:id="rId32"/>
    <p:sldId id="264" r:id="rId33"/>
    <p:sldId id="265" r:id="rId34"/>
    <p:sldId id="266" r:id="rId35"/>
    <p:sldId id="26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slide" Target="slides/slide6.xml"/><Relationship Id="rId31" Type="http://schemas.openxmlformats.org/officeDocument/2006/relationships/slide" Target="slides/slide7.xml"/><Relationship Id="rId32" Type="http://schemas.openxmlformats.org/officeDocument/2006/relationships/slide" Target="slides/slide8.xml"/><Relationship Id="rId33" Type="http://schemas.openxmlformats.org/officeDocument/2006/relationships/slide" Target="slides/slide9.xml"/><Relationship Id="rId34" Type="http://schemas.openxmlformats.org/officeDocument/2006/relationships/slide" Target="slides/slide10.xml"/><Relationship Id="rId35" Type="http://schemas.openxmlformats.org/officeDocument/2006/relationships/slide" Target="slides/slide11.xml"/><Relationship Id="rId36" Type="http://schemas.openxmlformats.org/officeDocument/2006/relationships/slide" Target="slides/slide12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9159-1599-46FB-823F-0C98BD989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F554B-87F4-4DCF-9334-C1BAE26836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8DFEE5-5039-4723-B094-7548721F7F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C4DAA5-4B09-427C-BAE2-82447D2CC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EE5233E-90E1-46E2-9A5F-5CA2FE34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C70F7B-13F2-4C45-A4AF-B26221078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C49F755-6456-400E-8D6F-99E9F7DBE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DA11F9-64ED-4EDB-BFAF-A791464A8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D417C5-1832-4908-ADE0-28D92F010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2D3121F-9050-4E12-9333-274B4E304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31B166-5CBE-41D8-A6A9-5EE0469F7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FC7AB91-4299-40AA-90A4-35037DE6E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05A8-7D13-4958-8679-B0908D0B5B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7B66019-B8B7-4C1F-806F-CA1800EC0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D222E74-6494-45BD-996B-13A192C87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04A4E9-01F2-4C1A-B032-037DC61DD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D12C22-B905-4386-8769-0F99D9549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BD657D8-46A1-4B73-BB7E-BE382D9FC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DBF899-6769-4BED-BD09-60E86B220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DD1895-653F-47DF-BCEC-33F15B756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5CEFFDF-1804-4DBF-BB0D-0109F40C9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2E4A86-4F32-497B-AD21-9C5341AB0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7D6ACB-5643-42CB-AEA7-C7F9709E4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D2FC4-89A8-4DC0-B9A0-777539E0D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ECCF8F-B805-401F-B1A0-5B6ADEDF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833818-6B7C-4519-A58B-04F1EFF2BC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B34304B-ADAD-42C1-9DC3-5A0BA02A3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3EDA8F-D45A-4AD4-9715-72CB18F0B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10D366-26D2-4115-B4E2-BA42D75E5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9558E0-4F92-4F41-A1E9-93102344B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480C7E-CFA0-4714-B58E-35C270743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FEF74E-A934-42E2-9BA6-EA30CA21A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4D16C05-F0C9-48AC-B0D3-D9329F4A3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08BE82-78F4-4873-B04F-FB7121473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63E21-D611-4A0F-BEBD-59F508C99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280CDA-519A-4EEC-BBF6-7DCEC207A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8243F3-7CB4-4B04-98AD-D703419CE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8B4FBF-8A15-4FCA-9CBD-E1F67F9AB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88DA392-CA0C-451D-9511-3F2274A5FA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8AC8DF8-9685-4C38-BF4F-7AE2EB18F0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73917A-F590-417B-929D-775345B99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7A9AAC7-3C91-457B-A48D-B99AD1567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5736BE4-DDB9-4A95-8102-F59931BAF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E717F77-A86B-43DD-9460-64A53706C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04160C8-EF8D-46B7-B78E-8E4436D66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D09F2-6388-4A7C-816B-072B1503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3706E38-C7A4-4AB6-A999-512321AD7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640D5D5-DC52-4E44-B703-83274E929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61E7E4-9AF5-415A-8497-0BDA4A072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0F4830-F37F-4851-8B53-FC70A89146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D40F0A7-19C0-47B9-863F-A19021372D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AC6D1B-6F8F-4FC9-9E9B-D0B0D545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AC5AE9-CBD4-46AF-BA63-5A9BD55A8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98BDBE-F7E5-4AD0-B10D-C3E388186A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BBF8F59-3A72-4B69-AB02-D4E166FA5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1BD026-BF75-4B03-B1F3-47C2DB1AA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B842D-3570-49D5-BC04-595C3B385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05147B-20CE-4130-A75C-0F9E4B018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983E2E8-1D4E-4C49-9EFC-4AF5615A8F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4FFE1DB-3AE3-4EEB-B834-9E55531D8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DD5C39A-EC11-4611-A426-01A915B424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A2B3FB7-CC46-41E5-9043-0BB425AF3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3651C59-82C7-4850-94F9-724B2B86A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3B551D-5660-49A1-998C-67F6C841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D669021-34AD-41AE-AB5A-5033715C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3D0DC33-D7EA-4ABF-8FF6-9EDE41C6B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88ED60-E8F8-471C-A40B-260061154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59D87-E9FD-44FD-81C8-82520D805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0D79788-E66C-4F71-B1B2-25A2469C3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1AB9C9-34A1-4320-A7E6-0A18661B4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357B57-5B9B-4CE1-8D97-82CD8DCE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61FD29-06A0-4237-A56B-A4D3B706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5D001D3-E24D-428E-8DF3-E29FE0543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FD03EFE-529E-456A-8F06-6A5C6BF8F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AF73FE5-EC87-4524-97BD-219F73C4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571FC47-99AC-4A1B-91A3-8279BD7E4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6B2CBC0-5231-42E1-A452-440293F7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A60B6E-64C0-471C-8989-E673A45758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72E7-9DD3-4B8B-82EE-E6A2F6AB5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EF02FB-D251-41BE-9BBB-5ED449F2C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CBD9ABC-BFAE-42F0-BB56-143473D67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B0524-DA4A-41CB-9D7A-8146EC99F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63120CE-326F-41F2-9805-5B2534883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DF1CDC5-5585-4519-99C1-A931A86FD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9D7CE68-0734-47C7-BDA5-1C92C1C8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5E7FDF-A30C-4D6D-9CD1-BFCF14CEE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9F1EC1F-C775-4F2F-B4D6-A5D0BB9B4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A7DFA-8060-43EF-B4BD-DC5F3701D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AC8607-BE56-4633-A805-84CD72290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9C310-2E79-44B9-B68F-EBF054BB8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B01AAD-DCCF-4CA3-BD57-7424CC75D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B4D715-633F-4B54-8F77-31D2B92740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AA963BA-7A5E-4C94-B340-56D3D064B5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FBDCD8-5575-4153-9274-4166B4491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C8781BB-739D-4684-81D7-613A1763B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59FF1BA-10B9-4110-A26A-2B74F6354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1640CE-B14C-46AD-A4B9-EA2A307A9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ACB6A8E-ABFF-483F-A181-6AD7ACBA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CF280F-7353-4EFB-B025-B0BBBD602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48CE506-F51D-44A2-AEF6-C3E239ED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02B4AB-2ED5-4941-9F0D-C9116CCF2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3023B7-ACA0-427E-BF7B-883C376E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41C9B3A-DFA4-45DA-ADDA-F5AD52796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6F2583-6B53-4D3D-B968-22B11727E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0B8FA3-752F-4687-BBB4-7A91A19F5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E5110EC-7641-4317-B82E-7477FBCB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EF1A6-5CE3-4F81-989F-64DE1C8D7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81254EE-908D-4911-B51B-58B4303C8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C98136-D0D8-4CB4-A91E-ECAEE42EB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2D3AAB-E0E2-4799-AF40-35CFFC541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FDCDF2-130B-4CA7-A742-6FD8B6D7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31EA-FF95-49F8-B73E-6705F3853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AEBF0-35CC-41AC-ABA8-DEC8DFA66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760010-9E85-4FD1-BD0E-2BBB4D8E1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BDF2DCF-025F-4B75-ABBD-3EE6674D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F1773EE-07EB-4514-AD85-5530342F88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CE946E-FFDE-45D5-8AA7-5F5469FE03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379CA-EAF5-496A-A607-6BA88B7B3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84519F-897C-4926-843B-09AAD0B0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2173E5-D477-42FA-B7C3-0ECAFBA15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58F63FA-8CFE-4203-94C2-9A15113088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B994FBF-6228-414A-B27F-DF137925E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F1C85BE-076D-46F0-A797-A666F3EE95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E392B-FAC3-4245-B7F9-4F8258310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2A2ADA4-265C-46FF-A2DC-5B954EACBF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0471B7-642D-489F-9B28-4DA532C4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BA88FB1-681F-4204-B3C3-1FD2023A7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BBD93B3-7899-4666-9AD4-8328C846F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ADA9A3-6488-482E-80BE-E3F1E2391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DA3D43-0161-4652-BFDD-E41D58CBA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8A088F-B426-4ACC-B3EC-03FDFEE5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EB4AA4B-F652-44B6-8632-9A689E726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3CEF070-9D49-4E40-9FA0-E4A3E580D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F98311-28EC-4BA8-81A6-22FDEEC79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D06C5-BF0C-45EC-B40B-549C53710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B40550-57C4-4E8E-A536-C946C500F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301221E-FF68-469B-ACDA-90771E3B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C0FF5C-7C60-4703-9F01-A12CF8DC84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D506B45-9437-40F9-9739-02F64E9F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946329-5D8A-4117-AD6E-616E844BF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7E9A82A-A83C-4E04-951F-C5B0EF14F7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313614-5339-4064-8C05-AF6E1F565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FF9F4C-D8BC-4B37-AC03-FDEC65575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44D578B-E261-4768-9468-CA5DA537A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D787B40-C6D4-47D4-8DEB-411AEF8231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68AF8-806E-4C84-AD81-F847FF0AE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8A964-4BB4-400C-AE2B-1ED27EA4E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7DA2EE0-0D26-4E30-97BE-872A64233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7F2CD48-7902-4BA5-BFA2-F30F3CD4C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6CE24E2-7D47-4523-BBD2-791D44E04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2BC6B98-9DBF-48BA-BCE1-70A4DBC99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FE32BDE-F4EB-4EFE-9DC1-5D21EBD6A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24F8E-D970-4265-821C-956CC15F6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D803B45-C9B7-4E1C-B0A6-F9E980108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131B43-9EAA-4213-B053-61EF5EE31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6376ED2-C2E0-41B0-A492-93A0B0373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0DB13-D861-4390-9250-F77AAEAEDA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0E4A09-CF8A-4ED0-AB24-D4A91BF9A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2C4AD7-2656-4AC6-9B4B-1F61447DD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D6632F2-F252-4D20-BD82-2640432B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BCC1EC-98DB-4A9D-B7DC-D480F3BE9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A950BF9-4D39-4F63-BDFF-72DB9B14B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69F65EF-7581-4967-8345-078AA52E6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7496971-EE7A-4BDD-A1BA-09A271D17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6D9D05-FC8F-4EA4-B92E-32B335621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926C113-4F30-4A2B-969C-4FA8BF4C8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560FA1F-20D3-40B8-A32D-5CD8D649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4F7DC3-0496-44FB-A6A7-5587ECB3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B99FBA-C252-4F4F-82A3-4BB86679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90A3559-B2E7-447D-ADF8-495682150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A2CE020-FFC5-4670-9DC1-C6E2876E2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88C6289-02A4-40A6-ADC0-A46737DAD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DDFF179-86C6-4778-ACA4-2619C5C97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D64C75A-C374-4E54-9890-BE47CA58F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B1C7D6B-ABE7-4E60-A431-3A24DA2C01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5A59197-423C-41BE-A621-B8A66227F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B9AAA97-EECE-4FB0-8981-4209EFE5E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10595F7-BAD7-401D-94E6-5BCD73497A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8C4871-BBA2-4CE1-9143-1D9305065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90D5C5-4C35-4198-A171-6786323D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4B5A021-AF38-4540-BDFD-96DB0AFC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5C20DC5-031D-4016-B48C-CD72640D0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9EB8738-2E50-4956-9CF0-3C3DBD798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66530F-8190-4554-B56E-851A587079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25A1B11-06B5-4215-9D93-3FCE104A9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770B6B6-5F44-4BC9-924A-93A2BA62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5A8D85B-5CC1-4A74-BB23-0C2147531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EA056F1-A767-4EF2-9056-875CD8F05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CE6E1CA-CEC0-4D04-856C-8B5A5DDCA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A24D9-0781-4403-8354-4F08FDCE4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B45AAD3-4711-4E49-BC88-16046FE80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41D5472-415A-4ECF-A69A-2F559C04A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F98FE8D-4757-4CDE-B917-AECFE90F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6490CBB-99B2-4972-B56A-70C3C3676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7AEB47F-520F-43D1-B8F1-A7A645050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841EF46-2DE0-4CEF-9CCB-3092DE7B8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6F7AD9F-0265-437F-9ACE-B259B46CBE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1CA4CF-44C8-4AEF-88F6-2C3482CDF2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8FAC6E-8327-4FE8-8106-8FFC5588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4AB4F-08F0-4970-B258-AB31266C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8A0E3A-47A7-4058-8674-7BF2492CA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1C3517B-D698-42CF-B04D-B02E34809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79544E-8115-4A86-A4CC-F9F506AD6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0117DD-C2B1-4BDA-95F7-D85B64A7B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9EA2D6F-9255-44E8-B635-8F25F5777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BDCC2A-D983-432C-A8A8-44F06C6D4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811262-5CB0-4B7E-B844-D673DD25AB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9F553-1A35-4DDC-94A2-9A80DA9AD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D23F62D-A58C-4D55-AC78-8E7BACC23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0769A2-4F6F-4673-BCEC-792494F170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A4DC-FFF4-449B-9BD3-5B8F62E56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02C3A1-C5D6-4D50-A050-94B094DFD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874E72-A757-4704-A600-BBB17DECA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B786B8-90DD-4D6A-B52B-BBD3D774D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8E336D2-9D83-44FD-AB7E-F26C9B382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E69AB05-9001-4175-84BA-9D3626C8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C4722D-E5C4-4CC5-B821-F73DC272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B19BDB-9690-4717-9014-2A599387C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838407-3237-42F0-8FF7-3E2175E74C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F178E-EC9E-4786-9BF8-D6956F369E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1C65A3-51C6-483A-B41E-96A398AFEC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46175-5A3E-40A9-A4BA-717B60D7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EED8B-928A-470F-B683-258C1067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D76D8A-78C3-4FB3-A406-C6E615DB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48B4CC-89DB-4D8C-969F-1920A7625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414AF1-01F1-48F6-9AB0-5561B56CFB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84A3A-53E0-4AE4-8CBC-3FFC18A22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8C1BE1-A15D-46E1-8E2D-1FA505929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FE2BC5-7C14-4AAC-9ED3-480763812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9CA53B-3208-4D35-B4B7-5E5934FB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D0AAA8-27CA-4C78-97A4-A4C6767468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E3DD10-FA79-41FA-B7B9-22D77D109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34B0A-B6C3-46A2-8D7B-AAF352D72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59BBB58-4E3B-4461-A980-7886D40D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3D3A3C8-6A45-4E36-A67B-C4168DF56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B3B992-B17D-4898-875E-10443A744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3DE17C-62D7-4B32-A8D9-D7C65F013E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DA1454-E9E4-48CD-83F8-ED8729EC1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039F2B-76DD-4839-88C9-1F773464C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BAA314-D289-47AD-892B-953774DDE9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5BD7C8-4BC1-409F-99F1-93EB39AE5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4D64CC-48D5-409A-9D38-B58C81FB3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A7C547-F0C7-4450-8381-5B34F465D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D33A7-F469-4B6C-944C-7E0C1F569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27B0468-F077-435E-B4BE-D7EDC69F3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984B80-8B53-4B5A-B972-8389FA4E2D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43AC3E-1AFC-4492-97E4-15DE8D603B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201392-0CA0-46DF-B8E8-27738575D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FB6A976-0F02-43AB-9468-DDB738DA2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C61921-0F6E-4DBF-962F-B7E08DE21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9ADC0C-CEB3-475E-8B7C-CAA33C90C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BBC7860-FCD2-46EC-ACBA-02591256C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37B68A-1319-486F-BDBE-FCBFB83B9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94ED5B-B9E6-4544-A9CE-1F77BF6EF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6D656-1B86-4599-93A3-DF31168EF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C38E4E-C980-4FA4-A2A0-1BE1857372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51DDB0-5E9D-47EF-A7E4-5310EBEE1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F4B0DF-F03B-40A4-AFFB-FE12534A1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95390D-F46E-48BD-BB1D-097DA6388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3B9F2A-5FD8-4F57-AFEF-EB9936FC3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3C63EB-0614-485A-AA85-80ADDE2B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04FDDD-8FA3-49CB-9C44-E4032ABF1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2ADE29A-59E0-4AEB-9810-1F5E0D922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4FFA21-D7B6-4067-9F18-4EDB52BE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9B65178-B374-4615-B0C6-80C457E3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8945-2D92-4435-A666-2667E9491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A23BB1-41C9-4433-BA7A-4A9712842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6C7426-6E3F-4082-8D3E-A136E341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21B4BD-CC9B-425F-A7D2-D550E0E8E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496E729-6A79-4665-B42F-18FC9E6C1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4BDAC8-2442-40FD-A72B-1F672AC97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A3F22-0317-4917-BED5-D565254F8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D3B3EFD-A719-4D92-88DB-5A9BD34CE8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91704B-C043-4DBD-AAB5-03C1D1415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D05A68-2AEE-4777-842A-ADB58BC2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F86FEA-0732-4641-A577-FB64361DE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D345F4-7776-4288-9DAC-FEEF5EC8BE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27C12-88C7-46A4-996B-EEDFBB55726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150BC0-6F54-40C6-B9B4-6D0944A4BA6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0776A-F16F-4E98-AC44-86B9550589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13508-4191-4A1E-AECA-7BB7662622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4AC0B-237F-4115-B48C-9F17BA1FF5A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B113-6B85-4776-B97D-380E92DE1E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9E21C-DA04-4BA5-89B7-C724826389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4CA1B-FCB6-4A16-B09C-E44FDB51B9E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5304A-717A-4D0E-91FB-BD6FAA8AA64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A2E24-9B0C-4DD4-9AD0-29F8E4C132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5419E-27D5-4B6E-9354-200F32CBEF9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D7E2C-203D-4003-8E42-5B8B198181C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83D00-6E69-4FCF-929D-1D9B0422729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0D825-40E8-4AB9-BD57-AF71AE6FC95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DB1E6-965C-4768-BAF9-70A36C7A7E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5DC3D-25BC-4BE9-9951-52673A59DE4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9B290-23B4-4C24-BF45-F32579552EB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D9495-97B6-4ACB-B942-79E8B70C6CC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8F6DB-552B-4B21-AA79-3F96F40FC65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F06ED-8C64-4C61-AAD3-67789C8614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0004C-721D-4AEA-BD01-01EC4FC5D739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5572B-0B85-4CCE-A56B-E44FF620BE8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16E9-2819-4920-8E82-62F8793F9C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BC47C-30F0-401E-8C62-A95543AEA2A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D45DB-0BED-4326-BE98-8E262C17FF0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332D-F978-4F57-9F04-C82A2DB49CA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EB499-B046-4088-86BF-F27AE9ADDC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6E04B-A68C-4D13-A2F3-2BB6F5B69E1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01460-CA4A-40C6-A22C-ADE3C50C2A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B1386-DBA6-40A5-8281-B7BF77BC88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3A839-ED9A-4F69-B0B0-BCEBD830BB2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57B8B-7C48-46D5-809F-3DAEE9794E9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7E86-BE8A-440F-8537-E87969D35B3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787BE-21EF-40DA-8ED2-522C65D70EC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8ADF-08BF-42F1-A989-CAD1DA70AC5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1E4D9-300C-4CFA-885B-7C01E234CB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FBC4D8-F80D-418C-8488-7AC52D068A5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F9537-5A9E-492E-BD40-E5D85B3B26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065FF-5795-49A4-AE0E-127F2E9210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10E5E-1E8C-4D01-A65A-EC133306CB4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3DA02-D437-4BFD-A8BD-D905C8261AE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6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6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6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1792440" y="3013200"/>
            <a:ext cx="5559120" cy="10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图片 1" descr=""/>
          <p:cNvPicPr/>
          <p:nvPr/>
        </p:nvPicPr>
        <p:blipFill>
          <a:blip r:embed="rId1"/>
          <a:stretch/>
        </p:blipFill>
        <p:spPr>
          <a:xfrm>
            <a:off x="190440" y="2676600"/>
            <a:ext cx="8763120" cy="150480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2"/>
          <a:stretch/>
        </p:blipFill>
        <p:spPr>
          <a:xfrm>
            <a:off x="1332000" y="2708280"/>
            <a:ext cx="1152360" cy="40788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3"/>
          <a:stretch/>
        </p:blipFill>
        <p:spPr>
          <a:xfrm>
            <a:off x="4572000" y="2708280"/>
            <a:ext cx="792000" cy="407880"/>
          </a:xfrm>
          <a:prstGeom prst="rect">
            <a:avLst/>
          </a:prstGeom>
          <a:ln w="0">
            <a:noFill/>
          </a:ln>
        </p:spPr>
      </p:pic>
      <p:pic>
        <p:nvPicPr>
          <p:cNvPr id="1133" name="Picture 1" descr=""/>
          <p:cNvPicPr/>
          <p:nvPr/>
        </p:nvPicPr>
        <p:blipFill>
          <a:blip r:embed="rId4"/>
          <a:stretch/>
        </p:blipFill>
        <p:spPr>
          <a:xfrm>
            <a:off x="2700360" y="3701880"/>
            <a:ext cx="165564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6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1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6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图片 1" descr=""/>
          <p:cNvPicPr/>
          <p:nvPr/>
        </p:nvPicPr>
        <p:blipFill>
          <a:blip r:embed="rId1"/>
          <a:stretch/>
        </p:blipFill>
        <p:spPr>
          <a:xfrm>
            <a:off x="204840" y="981000"/>
            <a:ext cx="8732880" cy="4896000"/>
          </a:xfrm>
          <a:prstGeom prst="rect">
            <a:avLst/>
          </a:prstGeom>
          <a:ln w="0">
            <a:noFill/>
          </a:ln>
        </p:spPr>
      </p:pic>
      <p:pic>
        <p:nvPicPr>
          <p:cNvPr id="1135" name="Picture 1" descr=""/>
          <p:cNvPicPr/>
          <p:nvPr/>
        </p:nvPicPr>
        <p:blipFill>
          <a:blip r:embed="rId2"/>
          <a:stretch/>
        </p:blipFill>
        <p:spPr>
          <a:xfrm>
            <a:off x="755640" y="1959120"/>
            <a:ext cx="6553080" cy="407880"/>
          </a:xfrm>
          <a:prstGeom prst="rect">
            <a:avLst/>
          </a:prstGeom>
          <a:ln w="0">
            <a:noFill/>
          </a:ln>
        </p:spPr>
      </p:pic>
      <p:pic>
        <p:nvPicPr>
          <p:cNvPr id="1136" name="Picture 1" descr=""/>
          <p:cNvPicPr/>
          <p:nvPr/>
        </p:nvPicPr>
        <p:blipFill>
          <a:blip r:embed="rId3"/>
          <a:stretch/>
        </p:blipFill>
        <p:spPr>
          <a:xfrm>
            <a:off x="1332000" y="3487680"/>
            <a:ext cx="2808360" cy="407880"/>
          </a:xfrm>
          <a:prstGeom prst="rect">
            <a:avLst/>
          </a:prstGeom>
          <a:ln w="0">
            <a:noFill/>
          </a:ln>
        </p:spPr>
      </p:pic>
      <p:pic>
        <p:nvPicPr>
          <p:cNvPr id="1137" name="Picture 1" descr=""/>
          <p:cNvPicPr/>
          <p:nvPr/>
        </p:nvPicPr>
        <p:blipFill>
          <a:blip r:embed="rId4"/>
          <a:stretch/>
        </p:blipFill>
        <p:spPr>
          <a:xfrm>
            <a:off x="1619280" y="4970520"/>
            <a:ext cx="280836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3" dur="500"/>
                                        <p:tgtEl>
                                          <p:spTgt spid="11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8" dur="500"/>
                                        <p:tgtEl>
                                          <p:spTgt spid="1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3" dur="500"/>
                                        <p:tgtEl>
                                          <p:spTgt spid="1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8" name="图片 1" descr=""/>
          <p:cNvPicPr/>
          <p:nvPr/>
        </p:nvPicPr>
        <p:blipFill>
          <a:blip r:embed="rId1"/>
          <a:stretch/>
        </p:blipFill>
        <p:spPr>
          <a:xfrm>
            <a:off x="166680" y="1357200"/>
            <a:ext cx="8809200" cy="4143600"/>
          </a:xfrm>
          <a:prstGeom prst="rect">
            <a:avLst/>
          </a:prstGeom>
          <a:ln w="0">
            <a:noFill/>
          </a:ln>
        </p:spPr>
      </p:pic>
      <p:pic>
        <p:nvPicPr>
          <p:cNvPr id="1139" name="Picture 1" descr=""/>
          <p:cNvPicPr/>
          <p:nvPr/>
        </p:nvPicPr>
        <p:blipFill>
          <a:blip r:embed="rId2"/>
          <a:stretch/>
        </p:blipFill>
        <p:spPr>
          <a:xfrm>
            <a:off x="684360" y="2349360"/>
            <a:ext cx="1366560" cy="408240"/>
          </a:xfrm>
          <a:prstGeom prst="rect">
            <a:avLst/>
          </a:prstGeom>
          <a:ln w="0">
            <a:noFill/>
          </a:ln>
        </p:spPr>
      </p:pic>
      <p:pic>
        <p:nvPicPr>
          <p:cNvPr id="1140" name="Picture 1" descr=""/>
          <p:cNvPicPr/>
          <p:nvPr/>
        </p:nvPicPr>
        <p:blipFill>
          <a:blip r:embed="rId3"/>
          <a:stretch/>
        </p:blipFill>
        <p:spPr>
          <a:xfrm>
            <a:off x="755640" y="4365720"/>
            <a:ext cx="3097080" cy="407880"/>
          </a:xfrm>
          <a:prstGeom prst="rect">
            <a:avLst/>
          </a:prstGeom>
          <a:ln w="0">
            <a:noFill/>
          </a:ln>
        </p:spPr>
      </p:pic>
      <p:pic>
        <p:nvPicPr>
          <p:cNvPr id="1141" name="Picture 1" descr=""/>
          <p:cNvPicPr/>
          <p:nvPr/>
        </p:nvPicPr>
        <p:blipFill>
          <a:blip r:embed="rId4"/>
          <a:stretch/>
        </p:blipFill>
        <p:spPr>
          <a:xfrm>
            <a:off x="6300720" y="4365720"/>
            <a:ext cx="1366920" cy="407880"/>
          </a:xfrm>
          <a:prstGeom prst="rect">
            <a:avLst/>
          </a:prstGeom>
          <a:ln w="0">
            <a:noFill/>
          </a:ln>
        </p:spPr>
      </p:pic>
      <p:pic>
        <p:nvPicPr>
          <p:cNvPr id="1142" name="Picture 1" descr=""/>
          <p:cNvPicPr/>
          <p:nvPr/>
        </p:nvPicPr>
        <p:blipFill>
          <a:blip r:embed="rId5"/>
          <a:stretch/>
        </p:blipFill>
        <p:spPr>
          <a:xfrm>
            <a:off x="4859280" y="2378160"/>
            <a:ext cx="136692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0" dur="500"/>
                                        <p:tgtEl>
                                          <p:spTgt spid="1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5" dur="500"/>
                                        <p:tgtEl>
                                          <p:spTgt spid="1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0" dur="500"/>
                                        <p:tgtEl>
                                          <p:spTgt spid="1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5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190440" y="1171440"/>
            <a:ext cx="8763120" cy="45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8" name="图片 1" descr=""/>
          <p:cNvPicPr/>
          <p:nvPr/>
        </p:nvPicPr>
        <p:blipFill>
          <a:blip r:embed="rId1"/>
          <a:stretch/>
        </p:blipFill>
        <p:spPr>
          <a:xfrm>
            <a:off x="190440" y="1690560"/>
            <a:ext cx="876312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9" name="图片 1" descr=""/>
          <p:cNvPicPr/>
          <p:nvPr/>
        </p:nvPicPr>
        <p:blipFill>
          <a:blip r:embed="rId1"/>
          <a:stretch/>
        </p:blipFill>
        <p:spPr>
          <a:xfrm>
            <a:off x="293760" y="155520"/>
            <a:ext cx="8361360" cy="665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0" name="图片 1" descr=""/>
          <p:cNvPicPr/>
          <p:nvPr/>
        </p:nvPicPr>
        <p:blipFill>
          <a:blip r:embed="rId1"/>
          <a:stretch/>
        </p:blipFill>
        <p:spPr>
          <a:xfrm>
            <a:off x="185760" y="1628640"/>
            <a:ext cx="8771040" cy="36007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2"/>
          <a:stretch/>
        </p:blipFill>
        <p:spPr>
          <a:xfrm>
            <a:off x="684360" y="3213000"/>
            <a:ext cx="50292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225360" y="792000"/>
            <a:ext cx="8694720" cy="5486400"/>
          </a:xfrm>
          <a:prstGeom prst="rect">
            <a:avLst/>
          </a:prstGeom>
          <a:ln w="0">
            <a:noFill/>
          </a:ln>
        </p:spPr>
      </p:pic>
      <p:pic>
        <p:nvPicPr>
          <p:cNvPr id="1113" name="图片 2" descr=""/>
          <p:cNvPicPr/>
          <p:nvPr/>
        </p:nvPicPr>
        <p:blipFill>
          <a:blip r:embed="rId2"/>
          <a:stretch/>
        </p:blipFill>
        <p:spPr>
          <a:xfrm>
            <a:off x="1762200" y="6278400"/>
            <a:ext cx="5772240" cy="486000"/>
          </a:xfrm>
          <a:prstGeom prst="rect">
            <a:avLst/>
          </a:prstGeom>
          <a:ln w="0">
            <a:noFill/>
          </a:ln>
        </p:spPr>
      </p:pic>
      <p:pic>
        <p:nvPicPr>
          <p:cNvPr id="1114" name="Picture 1" descr=""/>
          <p:cNvPicPr/>
          <p:nvPr/>
        </p:nvPicPr>
        <p:blipFill>
          <a:blip r:embed="rId3"/>
          <a:stretch/>
        </p:blipFill>
        <p:spPr>
          <a:xfrm>
            <a:off x="684360" y="765000"/>
            <a:ext cx="502920" cy="4082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4"/>
          <a:stretch/>
        </p:blipFill>
        <p:spPr>
          <a:xfrm>
            <a:off x="684360" y="3284640"/>
            <a:ext cx="502920" cy="40788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5"/>
          <a:stretch/>
        </p:blipFill>
        <p:spPr>
          <a:xfrm>
            <a:off x="611280" y="4724280"/>
            <a:ext cx="503280" cy="4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" dur="500"/>
                                        <p:tgtEl>
                                          <p:spTgt spid="1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7" name="图片 1" descr=""/>
          <p:cNvPicPr/>
          <p:nvPr/>
        </p:nvPicPr>
        <p:blipFill>
          <a:blip r:embed="rId1"/>
          <a:stretch/>
        </p:blipFill>
        <p:spPr>
          <a:xfrm>
            <a:off x="166680" y="1428840"/>
            <a:ext cx="8809200" cy="40003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503280" cy="40788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3"/>
          <a:stretch/>
        </p:blipFill>
        <p:spPr>
          <a:xfrm>
            <a:off x="611280" y="3429000"/>
            <a:ext cx="5032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0" name="图片 1" descr=""/>
          <p:cNvPicPr/>
          <p:nvPr/>
        </p:nvPicPr>
        <p:blipFill>
          <a:blip r:embed="rId1"/>
          <a:stretch/>
        </p:blipFill>
        <p:spPr>
          <a:xfrm>
            <a:off x="181080" y="1914480"/>
            <a:ext cx="8781840" cy="302904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2"/>
          <a:stretch/>
        </p:blipFill>
        <p:spPr>
          <a:xfrm>
            <a:off x="539640" y="1916280"/>
            <a:ext cx="50328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2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2" name="图片 1" descr=""/>
          <p:cNvPicPr/>
          <p:nvPr/>
        </p:nvPicPr>
        <p:blipFill>
          <a:blip r:embed="rId1"/>
          <a:stretch/>
        </p:blipFill>
        <p:spPr>
          <a:xfrm>
            <a:off x="216000" y="820800"/>
            <a:ext cx="8713800" cy="550548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2"/>
          <a:stretch/>
        </p:blipFill>
        <p:spPr>
          <a:xfrm>
            <a:off x="3419640" y="1355760"/>
            <a:ext cx="1800000" cy="40788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3"/>
          <a:stretch/>
        </p:blipFill>
        <p:spPr>
          <a:xfrm>
            <a:off x="2050920" y="2349360"/>
            <a:ext cx="1800360" cy="408240"/>
          </a:xfrm>
          <a:prstGeom prst="rect">
            <a:avLst/>
          </a:prstGeom>
          <a:ln w="0">
            <a:noFill/>
          </a:ln>
        </p:spPr>
      </p:pic>
      <p:pic>
        <p:nvPicPr>
          <p:cNvPr id="1125" name="Picture 1" descr=""/>
          <p:cNvPicPr/>
          <p:nvPr/>
        </p:nvPicPr>
        <p:blipFill>
          <a:blip r:embed="rId4"/>
          <a:stretch/>
        </p:blipFill>
        <p:spPr>
          <a:xfrm>
            <a:off x="1403280" y="2852640"/>
            <a:ext cx="1152720" cy="40824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5"/>
          <a:stretch/>
        </p:blipFill>
        <p:spPr>
          <a:xfrm>
            <a:off x="5076720" y="2852640"/>
            <a:ext cx="1152720" cy="40824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6"/>
          <a:stretch/>
        </p:blipFill>
        <p:spPr>
          <a:xfrm>
            <a:off x="6494400" y="4348080"/>
            <a:ext cx="2160720" cy="40824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7"/>
          <a:stretch/>
        </p:blipFill>
        <p:spPr>
          <a:xfrm>
            <a:off x="3203640" y="5357880"/>
            <a:ext cx="2160360" cy="40788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8"/>
          <a:stretch/>
        </p:blipFill>
        <p:spPr>
          <a:xfrm>
            <a:off x="3276720" y="5834160"/>
            <a:ext cx="14396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9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4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4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4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9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27:55Z</dcterms:modified>
  <cp:revision>22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